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5.jpeg" ContentType="image/jpeg"/>
  <Override PartName="/ppt/media/image11.wmf" ContentType="image/x-wmf"/>
  <Override PartName="/ppt/media/image14.png" ContentType="image/png"/>
  <Override PartName="/ppt/media/image13.wmf" ContentType="image/x-wmf"/>
  <Override PartName="/ppt/media/image32.jpeg" ContentType="image/jpeg"/>
  <Override PartName="/ppt/media/image34.wmf" ContentType="image/x-wmf"/>
  <Override PartName="/ppt/media/image38.wmf" ContentType="image/x-wmf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28.wmf" ContentType="image/x-wmf"/>
  <Override PartName="/ppt/media/image46.png" ContentType="image/png"/>
  <Override PartName="/ppt/media/image35.wmf" ContentType="image/x-wmf"/>
  <Override PartName="/ppt/media/image36.png" ContentType="image/png"/>
  <Override PartName="/ppt/media/image48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2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0D8C-7035-40B1-A484-D66291A25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9727-E242-4D5B-BAF8-3A2893F7C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ees can brainstorm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AD6-AB9C-4DAC-9D97-90ABECC82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335-941B-4989-963E-7C2372A2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429-0DAA-4C20-AF43-56759D2A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4DC-F751-443D-AC6E-6CDFEDA5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CDE-0E7B-4E6D-A7FA-AD3B9017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DBB-C290-4241-8649-A6A91BD5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901-7551-47C5-BA7B-2C8B07D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907-CFCE-42B0-BD7E-E108E71F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DDF9-8956-4F60-A0BD-0D888B4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47D-2A79-4B21-9D15-4B59ECE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31C-1548-4415-8733-C1961433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2608-AD0D-40FE-BDED-1975C99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81F-EC68-4716-AC6C-8A89654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BB2-F31B-4875-B59D-2C2EB94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B3D0-BAD9-44AB-81E6-AE5FFD6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C41-C980-495F-8816-1A3C6E6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58B-3FA2-47FC-823D-6BF1194F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B71B-6B2B-42E9-9560-C275C64E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D3FD-5A6B-43BD-A50A-3CA71341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F3C5-6C6D-4DBD-848F-0C6B59A0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4C05-4E58-4D37-9BC8-509F514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3BF0-123E-4274-9487-B3AF0F4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5831-DE03-4FF7-A452-A10E7C2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E2F-4725-4C9C-840E-9F91AC59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53AF-8A60-4272-8BBD-52BC26CC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6150-C5A2-4D2D-9613-CDC3B39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9BC2-DC17-41F9-B7C7-B58B028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CEE1-795B-4473-8606-664C88E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C827-BF54-4D02-9B86-1E5A70DE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E4E5-19EC-4BC0-AED6-DAC6FEAD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44CF-4C06-40D1-B184-3CCA5DE3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E51F-3746-49DC-BD4F-DFF0446A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3751-2AC5-4CB7-9FAA-95799C7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43B7-104E-4285-A520-77064E0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613-B204-42A4-8BF6-A24A2A91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4BA6-84AC-4223-B040-D568FCC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64AF-6B46-4AB5-91AB-CB5AD9F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24DB-4051-486B-9FAC-DE3FCAE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1E28-F990-4801-9066-4BB4A9FE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E951-6126-4E3B-8BFB-F0D598E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FA64-6F3B-4D67-A40F-54A503E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FFC7-B8EA-4EBB-9180-F62A12F7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6C5F-716D-49DE-9C0F-D882B353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B602-C8AD-4A07-9205-14C0B690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CE2E-56EC-408C-A37A-F1E4AEB3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24B-9947-4C23-92F3-6A2A3CC2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C923-911F-416C-BF50-0559B5E0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FE4A-A3BC-4A1B-94A1-0D994F26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7234-D2B3-47E7-9254-3919F91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FA62-FA92-4FCE-BBC0-54CAF01C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FCE7-7990-40C0-AFC7-D92C0D1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C1A5-E231-4CFA-AA0B-57A3919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6831-57B2-4AC7-A473-5036273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2904-1E29-41A2-971E-098A9A2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5362-0B5C-4BB6-80E3-350256D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49A5-C0B9-4665-A9F0-19D1884A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B70-1722-4B65-AA3D-CB322F7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27B7-DA16-4002-8CF6-3B39A98F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09B50-663E-4A73-AFD1-62427C2A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F936-3709-47EA-8F68-E48E676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7DCC-026A-4A03-A738-CA553FD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2D8A-F6E9-4119-B35A-2F288B8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A113-3C3E-4A88-BAB0-A8785BE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F3593-EA72-4634-99A0-966DCA03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05F4-A8DA-4862-A235-0E055B7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BEEF-3496-4A12-A8FE-4F045F2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011ED-7584-42BD-B6DF-1881D73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B0D-E35B-4D2B-89DD-FE59CB2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78FF-AE23-4A49-A961-147AB6E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D9F99-6B76-449B-BEB4-911C37B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3D70-3672-458E-9B0A-42A9B63A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E1387-2357-4FAA-8B14-06002020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B4FD-ED9F-4870-92AC-77D3915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4D618-2803-4CE1-AD12-E28E0A10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CC60-D9D2-4B20-B981-FF5FC50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4986D-E285-4D3D-AE7E-B7C5E77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3E28-756A-4199-9B6B-C7C4F37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7D6E-F9D3-4010-BF63-2EE1951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EF5-7C22-437A-B42B-1117719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B66C-68CE-402F-8373-C76FF41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C42E-237C-4A9E-845D-7FA98D0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FDAE-8344-4D92-8147-518F57B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FA04-FE0B-46E9-86F7-9D62D0FA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1568E-8E39-43A8-AB4D-43E18631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98765-1742-4324-947B-0C4E3949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73BCB-19DB-4D82-ACDE-51AA07D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5796-5580-43C3-964F-485C9FBE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A4A48-603C-4040-B26E-63978D49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0B09-42B1-42D3-90B1-55F94EE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43D-99A8-45ED-A3DF-43A1B94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1387F-190E-4502-9402-3238825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6E1E-AC0A-4A52-A4EF-4800507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4327-AC37-4C0B-9B5F-11ABCE0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5097-435D-4EA9-9328-9EB1A64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95CF-23D0-4D2E-8561-A1D9659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AE04-42C5-4CFB-9EB2-E5774081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A5EB-31B8-47CF-92D5-9D6CDD32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96E-087D-4326-9EE5-50372350F5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587-788C-415D-829A-0212C4B6EC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F9D4-AB84-4328-8622-33A084D8A4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88D3-33DF-402C-BC27-D96604CFAC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F94D-5928-41EB-A3E3-D1A73B7F11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552E-F71C-41E9-98C2-77B5BCC2DE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C0E-17EA-40C5-ACA0-A4D10CACD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D66-7992-46E9-8B0B-1237A4EC71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ryanthabibscience.wikispaces.com/Technology+Resources" TargetMode="External"/><Relationship Id="rId2" Type="http://schemas.openxmlformats.org/officeDocument/2006/relationships/hyperlink" Target="http://classes.lakeviewacademy.com/classes/Teacher%20Webpage%20Patino.htm" TargetMode="External"/><Relationship Id="rId3" Type="http://schemas.openxmlformats.org/officeDocument/2006/relationships/hyperlink" Target="http://lvalibrary.wikispaces.com/" TargetMode="External"/><Relationship Id="rId4" Type="http://schemas.openxmlformats.org/officeDocument/2006/relationships/hyperlink" Target="http://classes.lakeviewacademy.com/classes/Teacher%20Webpage%20Fowler.htm" TargetMode="External"/><Relationship Id="rId5" Type="http://schemas.openxmlformats.org/officeDocument/2006/relationships/hyperlink" Target="http://lakeviewacademysecondgrade.wikispaces.com/" TargetMode="External"/><Relationship Id="rId6" Type="http://schemas.openxmlformats.org/officeDocument/2006/relationships/hyperlink" Target="http://lakeviewacademysecondgrade.wikispaces.com/" TargetMode="External"/><Relationship Id="rId7" Type="http://schemas.openxmlformats.org/officeDocument/2006/relationships/hyperlink" Target="http://lakeviewacademysecondgrade.wikispaces.com/" TargetMode="External"/><Relationship Id="rId8" Type="http://schemas.openxmlformats.org/officeDocument/2006/relationships/image" Target="../media/image23.png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keviewliterature.wikispaces.com/" TargetMode="External"/><Relationship Id="rId2" Type="http://schemas.openxmlformats.org/officeDocument/2006/relationships/hyperlink" Target="http://manelymath.wikispaces.com/" TargetMode="External"/><Relationship Id="rId3" Type="http://schemas.openxmlformats.org/officeDocument/2006/relationships/hyperlink" Target="http://marthalipold.wikispaces.com/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rtromp.wikispaces.com/" TargetMode="External"/><Relationship Id="rId2" Type="http://schemas.openxmlformats.org/officeDocument/2006/relationships/hyperlink" Target="https://mrslowesclass.wikispaces.com/" TargetMode="External"/><Relationship Id="rId3" Type="http://schemas.openxmlformats.org/officeDocument/2006/relationships/hyperlink" Target="http://educationalwikis.wikispaces.com/Examples+of+educational+wikis" TargetMode="External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000names.wikispaces.com/" TargetMode="External"/><Relationship Id="rId2" Type="http://schemas.openxmlformats.org/officeDocument/2006/relationships/hyperlink" Target="http://poetrycollaboration.wikispaces.com/" TargetMode="External"/><Relationship Id="rId3" Type="http://schemas.openxmlformats.org/officeDocument/2006/relationships/hyperlink" Target="http://writeyourstory.wikispaces.com/home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egacy.teachersfirst.com/content/wiki/" TargetMode="External"/><Relationship Id="rId2" Type="http://schemas.openxmlformats.org/officeDocument/2006/relationships/hyperlink" Target="http://www.wikispaces.com/help" TargetMode="External"/><Relationship Id="rId3" Type="http://schemas.openxmlformats.org/officeDocument/2006/relationships/hyperlink" Target="http://help.wikispaces.com/Teacher+Help" TargetMode="External"/><Relationship Id="rId4" Type="http://schemas.openxmlformats.org/officeDocument/2006/relationships/hyperlink" Target="http://www.wikispaces.com/content/wiki-tour" TargetMode="External"/><Relationship Id="rId5" Type="http://schemas.openxmlformats.org/officeDocument/2006/relationships/hyperlink" Target="http://blog.wikispaces.com/2010/07/tips-and-tricks-subpages.html" TargetMode="External"/><Relationship Id="rId6" Type="http://schemas.openxmlformats.org/officeDocument/2006/relationships/hyperlink" Target="http://blog.wikispaces.com/2010/07/tips-and-tricks-subpages.html" TargetMode="External"/><Relationship Id="rId7" Type="http://schemas.openxmlformats.org/officeDocument/2006/relationships/image" Target="../media/image39.png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ettingtrickywithwikis.wikispaces.com/" TargetMode="External"/><Relationship Id="rId2" Type="http://schemas.openxmlformats.org/officeDocument/2006/relationships/hyperlink" Target="https://docs.google.com/present/view?id=dhn2vcv5_164hj4tw6gf&amp;pli=1" TargetMode="Externa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44440" y="2084400"/>
            <a:ext cx="8723520" cy="1225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Lakeview Academ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Summer Technology </a:t>
            </a:r>
            <a:r>
              <a:rPr b="0" i="1" lang="en-US" sz="2500" spc="-1" strike="noStrike">
                <a:solidFill>
                  <a:srgbClr val="3b3b3b"/>
                </a:solidFill>
                <a:latin typeface="Lucida Sans Unicode"/>
              </a:rPr>
              <a:t>&amp; Learning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Instit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512640" y="-371520"/>
            <a:ext cx="79790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Scienc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Spanish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Library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Music &amp; Dr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Lakeview 2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nd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7"/>
              </a:rPr>
              <a:t> Grad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8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Documents and Settings\Melinda.Reinhardt\Local Settings\Temporary Internet Files\Content.IE5\HUYUTHNN\MC900299713[1].wmf"/>
          <p:cNvPicPr/>
          <p:nvPr/>
        </p:nvPicPr>
        <p:blipFill>
          <a:blip r:embed="rId9"/>
          <a:stretch/>
        </p:blipFill>
        <p:spPr>
          <a:xfrm rot="1247400">
            <a:off x="4625640" y="2744280"/>
            <a:ext cx="3727440" cy="35672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624852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returning from Sp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Melinda.Reinhardt\Local Settings\Temporary Internet Files\Content.IE5\RYAW103F\MC900141055[1].wmf"/>
          <p:cNvPicPr/>
          <p:nvPr/>
        </p:nvPicPr>
        <p:blipFill>
          <a:blip r:embed="rId5"/>
          <a:stretch/>
        </p:blipFill>
        <p:spPr>
          <a:xfrm rot="20974800">
            <a:off x="4038120" y="228564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Mr. Tromp's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rs. Lowe's Cla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used wix.com to create a webpage within a wik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spaces Educational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Melinda.Reinhardt\Local Settings\Temporary Internet Files\Content.IE5\X058U0TE\MC900060335[1].wmf"/>
          <p:cNvPicPr/>
          <p:nvPr/>
        </p:nvPicPr>
        <p:blipFill>
          <a:blip r:embed="rId5"/>
          <a:stretch/>
        </p:blipFill>
        <p:spPr>
          <a:xfrm rot="20251800">
            <a:off x="5261040" y="4200480"/>
            <a:ext cx="3208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hat Does 1,000 Look Lik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Po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Progressive Story Proje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4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C:\Documents and Settings\Melinda.Reinhardt\Local Settings\Temporary Internet Files\Content.IE5\HUYUTHNN\MC900335524[1].wmf"/>
          <p:cNvPicPr/>
          <p:nvPr/>
        </p:nvPicPr>
        <p:blipFill>
          <a:blip r:embed="rId5"/>
          <a:stretch/>
        </p:blipFill>
        <p:spPr>
          <a:xfrm rot="1203000">
            <a:off x="6496200" y="1176480"/>
            <a:ext cx="1819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Melinda.Reinhardt\Local Settings\Temporary Internet Files\Content.IE5\QOC0DUV5\MP900422533[1].jpg"/>
          <p:cNvPicPr/>
          <p:nvPr/>
        </p:nvPicPr>
        <p:blipFill>
          <a:blip r:embed="rId2"/>
          <a:stretch/>
        </p:blipFill>
        <p:spPr>
          <a:xfrm>
            <a:off x="32004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Pages (Spelling, Math, 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Projects P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 Page (information for paren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Resources Page (for students to use at school or at ho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Melinda.Reinhardt\Local Settings\Temporary Internet Files\Content.IE5\4B7TA4PV\MC900250659[1].wmf"/>
          <p:cNvPicPr/>
          <p:nvPr/>
        </p:nvPicPr>
        <p:blipFill>
          <a:blip r:embed="rId2"/>
          <a:stretch/>
        </p:blipFill>
        <p:spPr>
          <a:xfrm rot="20312400">
            <a:off x="6649920" y="845640"/>
            <a:ext cx="1524240" cy="1233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Documents and Settings\Melinda.Reinhardt\Local Settings\Temporary Internet Files\Content.IE5\2MM01B8X\MC900197899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9116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by chapter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rubrics/instru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pages for reading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tures, slide shows, 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other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 up sheets for ev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ekly homework sh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arch eng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C:\Documents and Settings\Melinda.Reinhardt\Local Settings\Temporary Internet Files\Content.IE5\ZFCO4CTT\MC900441523[1].wmf"/>
          <p:cNvPicPr/>
          <p:nvPr/>
        </p:nvPicPr>
        <p:blipFill>
          <a:blip r:embed="rId2"/>
          <a:stretch/>
        </p:blipFill>
        <p:spPr>
          <a:xfrm>
            <a:off x="2819520" y="1752480"/>
            <a:ext cx="3968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218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iki Walk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Webin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Wiki Help (How to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 Teacher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Getting Started Video Tou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Create your own page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1" descr=""/>
          <p:cNvPicPr/>
          <p:nvPr/>
        </p:nvPicPr>
        <p:blipFill>
          <a:blip r:embed="rId7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Documents and Settings\Melinda.Reinhardt\Local Settings\Temporary Internet Files\Content.IE5\TLI7FTPQ\MC900366354[1].wmf"/>
          <p:cNvPicPr/>
          <p:nvPr/>
        </p:nvPicPr>
        <p:blipFill>
          <a:blip r:embed="rId8"/>
          <a:stretch/>
        </p:blipFill>
        <p:spPr>
          <a:xfrm rot="1349400">
            <a:off x="5772240" y="1199880"/>
            <a:ext cx="236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49120" y="353880"/>
            <a:ext cx="4664160" cy="352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Documents and Settings\Melinda.Reinhardt\Local Settings\Temporary Internet Files\Content.IE5\QOC0DUV5\MC900304311[1].wmf"/>
          <p:cNvPicPr/>
          <p:nvPr/>
        </p:nvPicPr>
        <p:blipFill>
          <a:blip r:embed="rId2"/>
          <a:stretch/>
        </p:blipFill>
        <p:spPr>
          <a:xfrm>
            <a:off x="4952880" y="1676520"/>
            <a:ext cx="22892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Gettingtrickywith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18 Interesting Ways to Use Wikis in the 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2" descr=""/>
          <p:cNvPicPr/>
          <p:nvPr/>
        </p:nvPicPr>
        <p:blipFill>
          <a:blip r:embed="rId3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ing your Wiki for sum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using your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Melinda.Reinhardt\AppData\Local\Microsoft\Windows\Temporary Internet Files\Content.IE5\6KTO98YU\MC900070810[1].wmf"/>
          <p:cNvPicPr/>
          <p:nvPr/>
        </p:nvPicPr>
        <p:blipFill>
          <a:blip r:embed="rId2"/>
          <a:stretch/>
        </p:blipFill>
        <p:spPr>
          <a:xfrm>
            <a:off x="2971800" y="2438280"/>
            <a:ext cx="3664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ing Your Navigation B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Navigation B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dget 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Teacher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Blo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ing Images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who are home si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Documents and Settings\Melinda.Reinhardt\Local Settings\Temporary Internet Files\Content.IE5\2MM01B8X\MC900347477[1].wmf"/>
          <p:cNvPicPr/>
          <p:nvPr/>
        </p:nvPicPr>
        <p:blipFill>
          <a:blip r:embed="rId2"/>
          <a:stretch/>
        </p:blipFill>
        <p:spPr>
          <a:xfrm>
            <a:off x="3665520" y="2682720"/>
            <a:ext cx="3778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, relatives, and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Documents and Settings\Melinda.Reinhardt\Local Settings\Temporary Internet Files\Content.IE5\XL0O486A\MC900442094[1].wmf"/>
          <p:cNvPicPr/>
          <p:nvPr/>
        </p:nvPicPr>
        <p:blipFill>
          <a:blip r:embed="rId2"/>
          <a:stretch/>
        </p:blipFill>
        <p:spPr>
          <a:xfrm>
            <a:off x="2895480" y="2743200"/>
            <a:ext cx="4019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from all over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Documents and Settings\Melinda.Reinhardt\Local Settings\Temporary Internet Files\Content.IE5\X058U0TE\MC900088884[1].wmf"/>
          <p:cNvPicPr/>
          <p:nvPr/>
        </p:nvPicPr>
        <p:blipFill>
          <a:blip r:embed="rId2"/>
          <a:stretch/>
        </p:blipFill>
        <p:spPr>
          <a:xfrm>
            <a:off x="4572000" y="2971800"/>
            <a:ext cx="3638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of the fabulous things you are doing in your classroom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Documents and Settings\Melinda.Reinhardt\Local Settings\Temporary Internet Files\Content.IE5\3JCCAIOM\MC900187155[1].wmf"/>
          <p:cNvPicPr/>
          <p:nvPr/>
        </p:nvPicPr>
        <p:blipFill>
          <a:blip r:embed="rId2"/>
          <a:stretch/>
        </p:blipFill>
        <p:spPr>
          <a:xfrm rot="20349600">
            <a:off x="4509720" y="3006360"/>
            <a:ext cx="36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discus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ng and posting original wo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ng with other students and other 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Melinda.Reinhardt\AppData\Local\Microsoft\Windows\Temporary Internet Files\Content.IE5\71MR86ES\MC900231763[1].wmf"/>
          <p:cNvPicPr/>
          <p:nvPr/>
        </p:nvPicPr>
        <p:blipFill>
          <a:blip r:embed="rId2"/>
          <a:stretch/>
        </p:blipFill>
        <p:spPr>
          <a:xfrm>
            <a:off x="4191120" y="3422520"/>
            <a:ext cx="2908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s parents and students one place to go for all of your classroom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365040" y="274680"/>
            <a:ext cx="832176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:\Documents and Settings\Melinda.Reinhardt\Local Settings\Temporary Internet Files\Content.IE5\PFLG1KZP\MC900030046[1].wmf"/>
          <p:cNvPicPr/>
          <p:nvPr/>
        </p:nvPicPr>
        <p:blipFill>
          <a:blip r:embed="rId2"/>
          <a:stretch/>
        </p:blipFill>
        <p:spPr>
          <a:xfrm>
            <a:off x="2514600" y="3048120"/>
            <a:ext cx="4471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es anything have to go home on paper anymo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Documents and Settings\Melinda.Reinhardt\Local Settings\Temporary Internet Files\Content.IE5\GXSHWFLP\MP900448676[1].jpg"/>
          <p:cNvPicPr/>
          <p:nvPr/>
        </p:nvPicPr>
        <p:blipFill>
          <a:blip r:embed="rId2"/>
          <a:stretch/>
        </p:blipFill>
        <p:spPr>
          <a:xfrm rot="20530800">
            <a:off x="3201480" y="2749680"/>
            <a:ext cx="3938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9:27:10Z</dcterms:created>
  <dc:creator>Fac - Montgomery,Bruce</dc:creator>
  <dc:description/>
  <dc:language>en-US</dc:language>
  <cp:lastModifiedBy>Fac - Reinhardt,Melinda</cp:lastModifiedBy>
  <dcterms:modified xsi:type="dcterms:W3CDTF">2011-08-03T15:39:49Z</dcterms:modified>
  <cp:revision>305</cp:revision>
  <dc:subject/>
  <dc:title>Building Your Classroom Wiki or Webpage</dc:title>
</cp:coreProperties>
</file>